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2FC-FE0D-4900-95CA-5C956577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726-832E-447F-8BCF-95FBFBD4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68E-17C8-420D-B6E5-85C8E080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2DA-9227-4E32-B9FC-B704EE13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82D-D398-4102-873B-FB0353F8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8AD-67DB-4556-A4D0-EFAD374A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CF3C-D933-4211-8621-3918771E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48F-C51D-40D2-8DE9-FD9EB01A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A2C3-BABB-491A-8136-B8DF9D23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445-C76B-45D0-B5EF-776FF1A6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3956-04E9-4871-BF08-1973E9E4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4F8-5308-41B4-8768-5AB05EDF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EC04-8BFC-413A-86C5-6E91C016615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49cdc"/>
                </a:solidFill>
                <a:latin typeface="Comic Sans MS"/>
              </a:rPr>
              <a:t>  </a:t>
            </a:r>
            <a:r>
              <a:rPr b="1" lang="en-US" sz="9600" spc="-1" strike="noStrike">
                <a:solidFill>
                  <a:srgbClr val="00b050"/>
                </a:solidFill>
                <a:latin typeface="Comic Sans MS"/>
              </a:rPr>
              <a:t>Beatl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sca148.jpg"/>
          <p:cNvPicPr/>
          <p:nvPr/>
        </p:nvPicPr>
        <p:blipFill>
          <a:blip r:embed="rId1"/>
          <a:stretch/>
        </p:blipFill>
        <p:spPr>
          <a:xfrm>
            <a:off x="208080" y="1401840"/>
            <a:ext cx="3698640" cy="100407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6"/>
          <p:cNvSpPr/>
          <p:nvPr/>
        </p:nvSpPr>
        <p:spPr>
          <a:xfrm>
            <a:off x="3143160" y="28576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entury Gothic"/>
              </a:rPr>
              <a:t>Выполнил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b050"/>
                </a:solidFill>
                <a:latin typeface="Century Gothic"/>
              </a:rPr>
              <a:t>Ромео Монтекки 10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286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64a2"/>
                </a:solidFill>
                <a:uFillTx/>
                <a:latin typeface="Calibri"/>
              </a:rPr>
              <a:t>УДИВИТЕЛЕН ИХ ПРОГРЕСС С НЕВЕРОЯТНОЙ СКОРОСТЬЮ :</a:t>
            </a:r>
            <a:br>
              <a:rPr sz="2400"/>
            </a:br>
            <a:r>
              <a:rPr b="1" lang="ru-RU" sz="2400" spc="-1" strike="noStrike" u="sng">
                <a:solidFill>
                  <a:srgbClr val="8064a2"/>
                </a:solidFill>
                <a:uFillTx/>
                <a:latin typeface="Calibri"/>
              </a:rPr>
              <a:t>ЕЩЕ В НАЧАЛЕ 62-ГО ИХ МАЛО КТО ЗНАЛ.</a:t>
            </a:r>
            <a:br>
              <a:rPr sz="2400"/>
            </a:br>
            <a:r>
              <a:rPr b="1" lang="ru-RU" sz="2400" spc="-1" strike="noStrike" u="sng">
                <a:solidFill>
                  <a:srgbClr val="8064a2"/>
                </a:solidFill>
                <a:uFillTx/>
                <a:latin typeface="Calibri"/>
              </a:rPr>
              <a:t>В 63-М - ВСЯ ВЕЛИКОБРИТАНИЯ У ИХ НОГ.</a:t>
            </a:r>
            <a:br>
              <a:rPr sz="2400"/>
            </a:br>
            <a:r>
              <a:rPr b="1" lang="ru-RU" sz="2400" spc="-1" strike="noStrike" u="sng">
                <a:solidFill>
                  <a:srgbClr val="8064a2"/>
                </a:solidFill>
                <a:uFillTx/>
                <a:latin typeface="Calibri"/>
              </a:rPr>
              <a:t>С 64 ПО 66 ГОДА ВОЛНА «БИТЛОМАНИИ» - ПРОКАТИЛАСЬ ПО МИ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beatlzz32.jpg"/>
          <p:cNvPicPr/>
          <p:nvPr/>
        </p:nvPicPr>
        <p:blipFill>
          <a:blip r:embed="rId1"/>
          <a:stretch/>
        </p:blipFill>
        <p:spPr>
          <a:xfrm>
            <a:off x="4389480" y="0"/>
            <a:ext cx="4754520" cy="5108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1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4941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49cdc"/>
                </a:solidFill>
                <a:latin typeface="Calibri"/>
              </a:rPr>
              <a:t>ПОСЛЕ РАСПАДА ГРУППЫ В</a:t>
            </a:r>
            <a:r>
              <a:rPr b="1" lang="en-US" sz="3600" spc="-1" strike="noStrike">
                <a:solidFill>
                  <a:srgbClr val="749cdc"/>
                </a:solidFill>
                <a:latin typeface="Calibri"/>
              </a:rPr>
              <a:t>1970, </a:t>
            </a:r>
            <a:r>
              <a:rPr b="1" lang="ru-RU" sz="3600" spc="-1" strike="noStrike">
                <a:solidFill>
                  <a:srgbClr val="749cdc"/>
                </a:solidFill>
                <a:latin typeface="Calibri"/>
              </a:rPr>
              <a:t>ВСЕ ЧЛЕНЫ ГРУППЫ ПРОДОЛЖИЛИ УСПЕШНУЮ СОЛЬНУЮ КАРЬЕР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1230006202_beatles10.jpg"/>
          <p:cNvPicPr/>
          <p:nvPr/>
        </p:nvPicPr>
        <p:blipFill>
          <a:blip r:embed="rId1"/>
          <a:stretch/>
        </p:blipFill>
        <p:spPr>
          <a:xfrm>
            <a:off x="1663560" y="231840"/>
            <a:ext cx="5085000" cy="3968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f81bd"/>
                </a:solidFill>
                <a:latin typeface="Calibri"/>
              </a:rPr>
              <a:t>Основопологающий вопрос</a:t>
            </a:r>
            <a:r>
              <a:rPr b="1" lang="ru-RU" sz="4300" spc="-1" strike="noStrike">
                <a:solidFill>
                  <a:srgbClr val="4f81bd"/>
                </a:solidFill>
                <a:latin typeface="Calibri"/>
              </a:rPr>
              <a:t>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одзаголовок 2" descr=""/>
          <p:cNvPicPr/>
          <p:nvPr/>
        </p:nvPicPr>
        <p:blipFill>
          <a:blip r:embed="rId1"/>
          <a:stretch/>
        </p:blipFill>
        <p:spPr>
          <a:xfrm>
            <a:off x="993600" y="3614760"/>
            <a:ext cx="67978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8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385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38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23888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953735"/>
                </a:solidFill>
                <a:latin typeface="Calibri"/>
              </a:rPr>
              <a:t>ПРОБЛЕМНЫЕ ВОПРОСЫ</a:t>
            </a:r>
            <a:r>
              <a:rPr b="1" lang="ru-RU" sz="4900" spc="-1" strike="noStrike">
                <a:solidFill>
                  <a:srgbClr val="749cdc"/>
                </a:solidFill>
                <a:latin typeface="Calibri"/>
              </a:rPr>
              <a:t>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762680" cy="40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marL="429120" indent="-383760">
              <a:spcBef>
                <a:spcPts val="601"/>
              </a:spcBef>
              <a:buClr>
                <a:srgbClr val="c3d69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d69b"/>
                </a:solidFill>
                <a:latin typeface="Calibri"/>
              </a:rPr>
              <a:t>Чем можно объяснить потрясающую популярность «великолепной четверки», которая создала настоящую молодежную субкультуру, оказавшую и продолжающую оказывать влияние на всю западную культуру в цело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9120" indent="-383760">
              <a:spcBef>
                <a:spcPts val="601"/>
              </a:spcBef>
              <a:buClr>
                <a:srgbClr val="c3d69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d69b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3d69b"/>
                </a:solidFill>
                <a:latin typeface="Calibri"/>
              </a:rPr>
              <a:t>Каким образом они властвовали над умами нескольких поколений тинэйджеров и стали символом молодежного протест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9120" indent="-383760">
              <a:spcBef>
                <a:spcPts val="601"/>
              </a:spcBef>
              <a:buClr>
                <a:srgbClr val="c3d69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d69b"/>
                </a:solidFill>
                <a:latin typeface="Calibri"/>
              </a:rPr>
              <a:t>Почему они оказали серьезное влияние на мировое направление моды, торговлю, промышленность, быт и искусств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071440"/>
            <a:ext cx="3714840" cy="4786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The </a:t>
            </a:r>
            <a:r>
              <a:rPr b="0" i="1" lang="en-US" sz="4000" spc="-1" strike="noStrike">
                <a:solidFill>
                  <a:srgbClr val="0070c0"/>
                </a:solidFill>
                <a:latin typeface="Bookman Old Style"/>
                <a:ea typeface="MS Mincho"/>
              </a:rPr>
              <a:t>Beatles</a:t>
            </a:r>
            <a:r>
              <a:rPr b="0" i="1" lang="en-US" sz="40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 </a:t>
            </a:r>
            <a:r>
              <a:rPr b="0" i="1" lang="ru-RU" sz="29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были популярной рок-группой 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из Ливерпуля 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( Англия), которая сформирова-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лась в  1959 году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23924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600" spc="-1" strike="noStrike">
                <a:solidFill>
                  <a:srgbClr val="215968"/>
                </a:solidFill>
                <a:latin typeface="Calibri"/>
              </a:rPr>
              <a:t>ДОСТИЖЕНИЯ</a:t>
            </a:r>
            <a:br>
              <a:rPr sz="1600"/>
            </a:br>
            <a:br>
              <a:rPr sz="1600"/>
            </a:b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ПЕСНЯ «YESTERDAY» ПОЛА МАККАРТНИ ИЗ АЛЬБОМА «HELP!»,  УЖЕ ЧЕРЕЗ ДВА ГОДА БЫЛА ЗАПИСАНА БОЛЕЕ ТЫСЯЧИ РАЗ, ЧТО ЯВЛЯЕТСЯ РЕКОРДОМ «ГИННЕССА»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ГРУППА ВНЕСЛА  НЕОЦЕНИМЫЙ ВКЛАД В РАЗВИТИЕ РОК-МУЗЫКИ. АНСАМБЛЬ НЕ ТОЛЬКО ИЗМЕНИЛ ЕЁ, НО И ДОСТИГ БЕСПРЕЦЕДЕНТНОЙ ПОПУЛЯРНОСТИ, БЛАГОДАРЯ ЧЕМУ  «THE BEATLES» СТАЛИ ОДНИМ ИЗ САМЫХ ЯРКИХ ФЕНОМЕНОВ МИРОВОЙ КУЛЬТУРЫ XX ВЕКА, ПРОДАВ ПО ВСЕМУ МИРУ БОЛЕЕ 1 МИЛЛИАРДА ПЛАСТИНОК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«БИТЛЗ» СЧИТАЕТСЯ ВЕЛИЧАЙШЕЙ ГРУППОЙ ВСЕХ ВРЕМЁН И НАРОДОВ.</a:t>
            </a:r>
            <a:br>
              <a:rPr sz="1800"/>
            </a:b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ТЕЛЕВИЗИОННОЕ ШОУ ЭДА САЛЛИВАНА С «THE BEATLES» (1964) СОБРАЛО 73 000 000 ЗРИТЕЛЕЙ.</a:t>
            </a:r>
            <a:br>
              <a:rPr sz="1800"/>
            </a:b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ГРУППА «THE BEATLES» ПОЛУЧИЛА ЗВЕЗДУ НА АЛЛЕЕ СЛАВЫ В ГОЛЛИВУДЕ ЗА ДОСТИЖЕНИЯ И ВКЛАД В ОБЛАСТИ МУЗЫКИ.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-231840" y="-231840"/>
            <a:ext cx="8248680" cy="3108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23725766_bitlz.jpg"/>
          <p:cNvPicPr/>
          <p:nvPr/>
        </p:nvPicPr>
        <p:blipFill>
          <a:blip r:embed="rId2"/>
          <a:stretch/>
        </p:blipFill>
        <p:spPr>
          <a:xfrm rot="646200">
            <a:off x="2306520" y="3122640"/>
            <a:ext cx="3949920" cy="30988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the-beatles-rock-band.jpg"/>
          <p:cNvPicPr/>
          <p:nvPr/>
        </p:nvPicPr>
        <p:blipFill>
          <a:blip r:embed="rId1"/>
          <a:stretch/>
        </p:blipFill>
        <p:spPr>
          <a:xfrm>
            <a:off x="609480" y="3097080"/>
            <a:ext cx="7070760" cy="37116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2195640" y="30240"/>
            <a:ext cx="455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ни были новаторами во всем, прежде всего в использовании электронной техники, которая применялась не только для выравнивания звучания инструментов, но и для создания спецэффектов, для раздельной записи с последующей перекомпоновкой кусков. Готовое произведение оказывалось смонтированным, как в кино, где шедевр зачастую рождается не столько на съемочной площадке, сколько в монтаж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478720" cy="1493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212760" y="244440"/>
            <a:ext cx="4280040" cy="5497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3:31:59Z</dcterms:created>
  <dc:creator>Руслан</dc:creator>
  <dc:description>Вот такие пироги...</dc:description>
  <cp:keywords>Ринго</cp:keywords>
  <dc:language>en-US</dc:language>
  <cp:lastModifiedBy>Габов</cp:lastModifiedBy>
  <dcterms:modified xsi:type="dcterms:W3CDTF">2010-06-09T04:51:11Z</dcterms:modified>
  <cp:revision>88</cp:revision>
  <dc:subject/>
  <dc:title>Beatles</dc:title>
</cp:coreProperties>
</file>